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A96-FCD5-46F2-92BC-C967D4C5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BCE-189D-4985-BC49-CA33B0FC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A61-1326-4118-B1B2-95211E88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664-B2BA-4446-BAEC-2616119B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330-F6DC-4A0B-9EA6-EBEAF23D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411-79F6-47DC-86A6-09F1FC9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800-9BEF-4149-95A4-3EC7EC0F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786C-7421-485E-8FC4-F45989B0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E149-0827-44A3-8C76-CE835728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B9D2-0EE0-4724-8DBB-60AD1B4C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7DF4-E898-4984-9251-E56794D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7F7-3451-4105-9054-323A7018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ED17-1726-45DA-AA27-F768C30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A3EF-0BF7-4A4B-9368-89CB3F1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3F3C-B830-4A94-BA3D-E7A2E69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772A-05E8-40B4-882B-F1B475D7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0590-3401-4FBC-9673-C17B3C2D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6AB-B321-4F0F-B3A8-48721CA1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5EE-3A21-48D0-9234-A8B67C6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766-E9AF-4C95-88DA-D8CB9F95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9B7-3AA0-4A68-9E9D-A2943D9B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CE6-9840-45AB-9057-323A6B5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059-FEC3-4AEF-B8CA-0CC5323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4D2-8093-406D-8641-1050C63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357B-8AEB-4B84-8CB5-4D490FFAA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F32F-F71A-4228-A24F-9C545C2AD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pe-law.com/jonmorris/calamity/calamity.gif&amp;imgrefurl=http://ape-law.com/jonmorris/calamity/&amp;h=650&amp;w=702&amp;sz=88&amp;hl=en&amp;start=15&amp;tbnid=Wofg6ThkWwnaAM:&amp;tbnh=130&amp;tbnw=140&amp;prev=/images%3Fq%3Dcalamity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rriam.org/park/Senior/images/congregate-meals.jpg&amp;imgrefurl=http://www.merriam.org/park/Senior/congregate-meals.htm&amp;h=224&amp;w=300&amp;sz=22&amp;hl=en&amp;start=5&amp;tbnid=AvdTPPuOZcvMjM:&amp;tbnh=87&amp;tbnw=116&amp;prev=/images%3Fq%3Dcongregate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19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liberate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in a carefully thought out manner; on purpose; purpos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liberat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ept Glenda off the planning committee because we didn’t want her to know that the party was to be in her hon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e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ollowed by the preposi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th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ithout; get along wit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bio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ful; uncertain; question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doubt about my feeling better, but i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ub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I can be back at school by tomo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imid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ghten; influence by fear; cow; overa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back because of fear; shrink; wince; fl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xercise 1- Each expression in column one has a SYNONYM in column 2. On your paper, enter the letter of the correct SYNONYM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UM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for a specific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imate 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uence by f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with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mth of reg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w back in f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ubtful, uncer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m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 misfortu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8288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1600200"/>
            <a:ext cx="2895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UM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im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d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b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am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bera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gre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2 sentences using five words in each. Must make sen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inished grab a textbook. We are on page 45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s to think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-fully developed, seem 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-one dimensional, only see one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-doesn’t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-goes through a change during th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uralism-things to rememb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try to depict life as it 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dea of humans being like puppets in natural circumstances outside of their control…can be circumstances in nature, or things like poverty, race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Open Boat-page 45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gs to think about as we re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ignificance of the first 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ype of narrator do we have,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horizon describ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phs 3-6 introduce the four characters. What do we know and what can me infer about each of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meant by the simile in the last paragrap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going shopping for cloths i hope the children if they wish can come with me to main street to watch the thanksgiving day pa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oph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it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 no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 ad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’re going shopping for clothes, I hope the children, if they wish, can come with me to Main Street to watch the Thanksgiving Day pa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gs to think about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onflic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e contrast between the two views imply about the people’s understand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lor of the sea changed from slate to emerald green streaked with amber lights, and the foam was like tumbling snow.” What is this an example of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is this sentence ironic… “it was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endid, it was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lorious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 in the presence of the gulls that makes the men angry and viol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situation with the gulls reinforce the predicament of the m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cused Freewrit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5 minu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$100,000 per year digging holes with a shovel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$30,000 per year playing your favorite sport or doing something you love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word does not have a sentence    with it, make one up as we go along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am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misfortune; catastrophe; dis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81280"/>
            <a:ext cx="33526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ogether in a crowd; assemble; g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homeowners near the school do not like students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gre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ir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038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v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or come together in a group for a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938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di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liness; warmth of reg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companion; good friend; ch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09:58Z</dcterms:created>
  <dc:creator>Angie</dc:creator>
  <dc:description/>
  <dc:language>en-US</dc:language>
  <cp:lastModifiedBy>Angie</cp:lastModifiedBy>
  <dcterms:modified xsi:type="dcterms:W3CDTF">2010-01-19T04:28:00Z</dcterms:modified>
  <cp:revision>3</cp:revision>
  <dc:subject/>
  <dc:title>English</dc:title>
</cp:coreProperties>
</file>